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2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7F0-3B5B-4E54-B3DF-098A6038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FAC-F9B7-44E1-B194-7CE17D88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7E8-20F4-451F-AF08-7ADABD2C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83B-103A-4134-BD44-EBDCDAC2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22A-D765-4350-B95B-5D612429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D8A-6AFC-41B2-9CA1-2B2B0DDC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145-68B6-4382-B8CA-02807108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FA8-1BBF-49DD-B631-13E2983E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48E-18D8-4341-B8EC-4E13E2F1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D94-FDD6-4EE4-A091-559B7ACF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8D4-5A18-4745-833A-471C7FF5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835-3F5F-41F2-80F2-C996A18B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F17F-CA59-4252-BD8F-BF7DAA2BE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pelling Activities - Sp 201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y Dr. Tim Fie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11360" y="322200"/>
            <a:ext cx="4340160" cy="7039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24600" y="928800"/>
            <a:ext cx="4716360" cy="781560"/>
          </a:xfrm>
          <a:prstGeom prst="rect">
            <a:avLst/>
          </a:prstGeom>
          <a:solidFill>
            <a:srgbClr val="9fc5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se are examples of Elkonin Box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45080" y="2354400"/>
            <a:ext cx="2303640" cy="390960"/>
          </a:xfrm>
          <a:prstGeom prst="rect">
            <a:avLst/>
          </a:prstGeom>
          <a:solidFill>
            <a:srgbClr val="3d85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lly Kooim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71840" y="1819440"/>
            <a:ext cx="5016240" cy="529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400" y="3949560"/>
            <a:ext cx="2278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ttle, Kayla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7960" y="2878200"/>
            <a:ext cx="9144000" cy="3187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82640" y="6696000"/>
            <a:ext cx="28926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lder, Katelyn 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7960" y="2844720"/>
            <a:ext cx="9144000" cy="3800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95800" y="6807240"/>
            <a:ext cx="4273560" cy="390960"/>
          </a:xfrm>
          <a:prstGeom prst="rect">
            <a:avLst/>
          </a:prstGeom>
          <a:solidFill>
            <a:srgbClr val="c27b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randa Neugebaue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57160" y="203040"/>
            <a:ext cx="8294760" cy="535680"/>
          </a:xfrm>
          <a:prstGeom prst="rect">
            <a:avLst/>
          </a:prstGeom>
          <a:solidFill>
            <a:srgbClr val="f1c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rrange and Scramb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9200" y="1219320"/>
            <a:ext cx="9612360" cy="117216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like this idea a lot. I have seen some schools use it. I would start with groups of students until they understood what they were doing. Then I would make them go into partner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7960" y="2529000"/>
            <a:ext cx="9144000" cy="3884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84400" y="7002360"/>
            <a:ext cx="32716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livier, Kari J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1520" y="3149640"/>
            <a:ext cx="8380440" cy="3198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62880" y="6400800"/>
            <a:ext cx="2579760" cy="390960"/>
          </a:xfrm>
          <a:prstGeom prst="rect">
            <a:avLst/>
          </a:prstGeom>
          <a:solidFill>
            <a:srgbClr val="d5a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isha Schran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7680" y="304920"/>
            <a:ext cx="4640400" cy="622800"/>
          </a:xfrm>
          <a:prstGeom prst="rect">
            <a:avLst/>
          </a:prstGeom>
          <a:solidFill>
            <a:srgbClr val="ead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Matching Word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16280" y="1015920"/>
            <a:ext cx="5204160" cy="1953360"/>
          </a:xfrm>
          <a:prstGeom prst="rect">
            <a:avLst/>
          </a:prstGeom>
          <a:solidFill>
            <a:srgbClr val="c27b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think this would be good for both lower and elementary students because making reviewing spelling words a game will be enjoyable for stud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7960" y="2317680"/>
            <a:ext cx="9144000" cy="4308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84440" y="6603840"/>
            <a:ext cx="3270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ompson, Deidra L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960" y="2581200"/>
            <a:ext cx="9144000" cy="3780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89360" y="6603840"/>
            <a:ext cx="3270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llman, Rachel F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03040" y="1625760"/>
            <a:ext cx="8136000" cy="3155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47680" y="101520"/>
            <a:ext cx="7421400" cy="7675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Spelling for Memory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45160" y="611280"/>
            <a:ext cx="3311640" cy="390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ephanie Torkels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6120" y="4978440"/>
            <a:ext cx="67309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I think that this activity would be great for spellers that struggle. They can think of ways to tie that word to another part to help spell it correctly.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79800" y="1819440"/>
            <a:ext cx="4000320" cy="5303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9200" y="5892840"/>
            <a:ext cx="3270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hlers, Gabrielle L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1520" y="1117440"/>
            <a:ext cx="9864720" cy="291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90880" y="6095880"/>
            <a:ext cx="2548080" cy="39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. Tim Fie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67000" y="203040"/>
            <a:ext cx="6619680" cy="767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Omitted Letter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58760" y="4470480"/>
            <a:ext cx="9826560" cy="7815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think this would be fine for beginners in spelling. I would use this if I had time to create it, but time would be factor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25760" y="1625760"/>
            <a:ext cx="6964200" cy="3485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57240" y="7112160"/>
            <a:ext cx="2394000" cy="390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ther Be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85960" y="304920"/>
            <a:ext cx="5040360" cy="1389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ctionary Practic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8160" y="5384880"/>
            <a:ext cx="5203800" cy="195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think this activity would be good for students who need to practice their dictionary skills. I would use this activity to introduce new vocabulary word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7960" y="2803680"/>
            <a:ext cx="9144000" cy="3335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8840" y="6299280"/>
            <a:ext cx="3270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kett, Nicole M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7960" y="3544920"/>
            <a:ext cx="9144000" cy="1854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01880" y="6197760"/>
            <a:ext cx="32706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ristensen, Tamara J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960" y="2973240"/>
            <a:ext cx="9144000" cy="2997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95800" y="6299280"/>
            <a:ext cx="3270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hnston, Elizabeth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09760" y="1819440"/>
            <a:ext cx="6604200" cy="5422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280" y="5486400"/>
            <a:ext cx="19846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hlers, Gabrielle 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117440" y="1219320"/>
            <a:ext cx="7864560" cy="3584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57240" y="6705720"/>
            <a:ext cx="1373400" cy="781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ther Be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85960" y="101520"/>
            <a:ext cx="5200920" cy="69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dden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3240" y="5181480"/>
            <a:ext cx="5203800" cy="195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think this would be a good activity for student who struggle with letter sequencing. I would use this at the beginning of a spelling uni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82800" y="1819440"/>
            <a:ext cx="6394320" cy="529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4280" y="5079960"/>
            <a:ext cx="19846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kett, Nicole M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7960" y="2581200"/>
            <a:ext cx="9144000" cy="3780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71560" y="6603840"/>
            <a:ext cx="4654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ristensen, Tamara J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7960" y="2857680"/>
            <a:ext cx="9144000" cy="322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81040" y="6500880"/>
            <a:ext cx="39657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hnston, Elizabeth J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89360" y="1819440"/>
            <a:ext cx="4381560" cy="529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54120" y="4978440"/>
            <a:ext cx="19843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bbe, Jacqueline M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19320" y="3471840"/>
            <a:ext cx="8265960" cy="3025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06800" y="7027920"/>
            <a:ext cx="2503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ooiman, Kelly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1880" y="220680"/>
            <a:ext cx="3024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konin Bo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62080" y="1643040"/>
            <a:ext cx="8183520" cy="156276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really like this activity.  It allows students to play around with the different sounds that they hear to create words.  I would definately use this activity in my classroo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